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3A3-D8FE-48C1-B717-CBE023DF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2E3-3FF1-4967-9686-11FA60F4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9E5-461F-4A46-A630-F39442E3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505-E634-4875-966D-1D381B0C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1B2-98EE-4EE9-84D7-CCE6BBBA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8C4-8019-4437-AA74-768244C0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C4F-1C24-4285-B450-6174B381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E96-1F29-4DED-9404-20EE0A55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AF0-97C7-4163-9904-1504A7AE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692-73A7-4ABA-8B1F-9F7DD960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4BF-B3BD-4B0F-8247-25ED5075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C1A-0D43-405B-86A6-BB7043D1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528B-86BC-4CEF-A48F-DCF4254D4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1600200" cy="1914480"/>
          </a:xfrm>
          <a:prstGeom prst="rect">
            <a:avLst/>
          </a:prstGeom>
          <a:ln w="0">
            <a:noFill/>
          </a:ln>
        </p:spPr>
      </p:pic>
      <p:cxnSp>
        <p:nvCxnSpPr>
          <p:cNvPr id="42" name=""/>
          <p:cNvCxnSpPr>
            <a:stCxn id="41" idx="1"/>
          </p:cNvCxnSpPr>
          <p:nvPr/>
        </p:nvCxnSpPr>
        <p:spPr>
          <a:xfrm flipH="1">
            <a:off x="2208960" y="3395520"/>
            <a:ext cx="175392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" name=""/>
          <p:cNvCxnSpPr>
            <a:stCxn id="41" idx="0"/>
          </p:cNvCxnSpPr>
          <p:nvPr/>
        </p:nvCxnSpPr>
        <p:spPr>
          <a:xfrm flipH="1" flipV="1">
            <a:off x="4723920" y="1294560"/>
            <a:ext cx="38880" cy="114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" name=""/>
          <p:cNvCxnSpPr/>
          <p:nvPr/>
        </p:nvCxnSpPr>
        <p:spPr>
          <a:xfrm>
            <a:off x="5562360" y="3352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" name=""/>
          <p:cNvCxnSpPr>
            <a:stCxn id="41" idx="2"/>
          </p:cNvCxnSpPr>
          <p:nvPr/>
        </p:nvCxnSpPr>
        <p:spPr>
          <a:xfrm>
            <a:off x="4762440" y="4352760"/>
            <a:ext cx="38880" cy="136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" name=""/>
          <p:cNvSpPr/>
          <p:nvPr/>
        </p:nvSpPr>
        <p:spPr>
          <a:xfrm>
            <a:off x="3809880" y="228600"/>
            <a:ext cx="17528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819520"/>
            <a:ext cx="20574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2819520"/>
            <a:ext cx="19051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638680"/>
            <a:ext cx="17524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30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grated Un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F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520" y="4467240"/>
            <a:ext cx="380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ject has i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tab on our protop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ill take studen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orts of fun activit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2:40:16Z</dcterms:created>
  <dc:creator>Donnie EIland License</dc:creator>
  <dc:description/>
  <dc:language>en-US</dc:language>
  <cp:lastModifiedBy>Donnie EIland License</cp:lastModifiedBy>
  <dcterms:modified xsi:type="dcterms:W3CDTF">2008-04-23T03:12:33Z</dcterms:modified>
  <cp:revision>3</cp:revision>
  <dc:subject/>
  <dc:title>PowerPoint Presentation</dc:title>
</cp:coreProperties>
</file>